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3B5-7B7B-4003-BE1E-A75E5C8C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902-04CA-4FD5-AFD7-D39CFF8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9E8-9DA2-40A0-B3EE-8CFE38F1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C1E-3E37-4F27-B013-A8DBB35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821-1F08-444E-9F66-8DA839FA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3A5-F6DF-4765-B494-3661CA1B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C67-B368-4306-81D7-D1D5D27A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8816-F1BF-49A1-BB57-24E6470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AD83-2483-4337-87D0-EBAA6298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6538-EDDC-4D74-9EAD-92E3356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60B-B0CF-48F4-88C7-A6E4592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9A4-D2C8-462F-AA02-4A501D53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E705-FCC3-42C5-9875-1E2DF0E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7637-9A16-4D44-A5EC-103D5808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66E-7CD5-442C-9745-1F51DCD8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F4A-1DC9-4313-9993-03A89339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92A-5D61-4B04-9403-168DAE4C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480-4431-4E78-B9F5-74396F2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BD5-FC0D-4815-977E-59BC5060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D5A-A9E6-4D5E-B7A2-95AA158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AB5-348F-4C84-A8B9-66384BB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9C0-2804-49E1-BA65-ED19D5F1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CF2-4E96-4D04-817C-34BC647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CE6-7598-4934-8C3D-F230411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07F8-E46C-41B3-A878-68BDA7A9D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54FE-9AA8-4BF6-A286-107B86A73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95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BEP MAINTENANCE DES VEHICULES ET DES MATERIEL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ssion 200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EP2 Analyse fonctionnelle et structurelle</a:t>
            </a: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Épreuve ponctuell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Dossier res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530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liquer ici pour continu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227640" y="5373720"/>
            <a:ext cx="936720" cy="288720"/>
          </a:xfrm>
          <a:custGeom>
            <a:avLst/>
            <a:gdLst>
              <a:gd name="textAreaLeft" fmla="*/ 18720 w 936720"/>
              <a:gd name="textAreaRight" fmla="*/ 918000 w 936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0018" h="21600">
                <a:moveTo>
                  <a:pt x="0" y="0"/>
                </a:moveTo>
                <a:lnTo>
                  <a:pt x="70018" y="0"/>
                </a:lnTo>
                <a:lnTo>
                  <a:pt x="70018" y="21600"/>
                </a:lnTo>
                <a:lnTo>
                  <a:pt x="0" y="21600"/>
                </a:lnTo>
                <a:close/>
              </a:path>
              <a:path fill="lightenLess" w="70018" h="21600">
                <a:moveTo>
                  <a:pt x="0" y="0"/>
                </a:moveTo>
                <a:lnTo>
                  <a:pt x="70018" y="0"/>
                </a:lnTo>
                <a:lnTo>
                  <a:pt x="68618" y="1400"/>
                </a:lnTo>
                <a:lnTo>
                  <a:pt x="1400" y="1400"/>
                </a:lnTo>
                <a:close/>
              </a:path>
              <a:path fill="darken" w="70018" h="21600">
                <a:moveTo>
                  <a:pt x="70018" y="0"/>
                </a:moveTo>
                <a:lnTo>
                  <a:pt x="70018" y="21600"/>
                </a:lnTo>
                <a:lnTo>
                  <a:pt x="68618" y="20200"/>
                </a:lnTo>
                <a:lnTo>
                  <a:pt x="68618" y="1400"/>
                </a:lnTo>
                <a:close/>
              </a:path>
              <a:path fill="darkenLess" w="70018" h="21600">
                <a:moveTo>
                  <a:pt x="70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618" y="20200"/>
                </a:lnTo>
                <a:close/>
              </a:path>
              <a:path fill="lighten" w="70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018" h="21600">
                <a:moveTo>
                  <a:pt x="28003" y="3794"/>
                </a:moveTo>
                <a:lnTo>
                  <a:pt x="42016" y="10800"/>
                </a:lnTo>
                <a:lnTo>
                  <a:pt x="28003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66ff"/>
                </a:solidFill>
                <a:uFillTx/>
                <a:latin typeface="Tahoma"/>
              </a:rPr>
              <a:t>Moto-réducteur Valéo d’essuie-glace</a:t>
            </a:r>
            <a:br>
              <a:rPr sz="3200"/>
            </a:br>
            <a:r>
              <a:rPr b="1" lang="fr-FR" sz="32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962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Problémat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Mise en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Ajus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ff"/>
                </a:solidFill>
                <a:uFillTx/>
                <a:latin typeface="Tahoma"/>
              </a:rPr>
              <a:t>Hach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ff"/>
                </a:solidFill>
                <a:uFillTx/>
                <a:latin typeface="Tahoma"/>
              </a:rPr>
              <a:t>Vis à tô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DSCN1115" descr=""/>
          <p:cNvPicPr/>
          <p:nvPr/>
        </p:nvPicPr>
        <p:blipFill>
          <a:blip r:embed="rId5"/>
          <a:srcRect l="5489" t="17072" r="2377" b="17889"/>
          <a:stretch/>
        </p:blipFill>
        <p:spPr>
          <a:xfrm>
            <a:off x="4724280" y="2590920"/>
            <a:ext cx="388620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22944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6012000" y="573408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Problématique :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66ff"/>
                </a:solidFill>
                <a:latin typeface="Tahoma"/>
                <a:ea typeface="Times New Roman"/>
              </a:rPr>
              <a:t>On a constaté une défaillance de la vitesse de rotation du bras de l’essuie glace entraîné par le moto-réducteur Valéo. On doit donc déterminer la source de la défaillance et pour cela l’étude ci-après doit permettre à la fois de mieux comprendre le système de ce moto-réducteur et aussi de déterminer où se situe le problèm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958200"/>
            <a:ext cx="7632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Tahoma"/>
              </a:rPr>
              <a:t>Objectif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Comprendre les éléments du système pour situer la défaillance.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Mise en situa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94000"/>
            <a:ext cx="365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  <a:ea typeface="Times New Roman"/>
              </a:rPr>
              <a:t>L’objet technique étudié est un moteur d’essuie glaces d’automobile et fonctionne donc sous une tension de 12 V en courant continu. (Référence moteur VALEO MD 250). Ce moteur est utilisé également pour d’autres applications ( exemple : ouvre portail DRAGON 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944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012000" y="573408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9076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valeo40" descr=""/>
          <p:cNvPicPr/>
          <p:nvPr/>
        </p:nvPicPr>
        <p:blipFill>
          <a:blip r:embed="rId3"/>
          <a:srcRect l="13287" t="0" r="9965" b="6077"/>
          <a:stretch/>
        </p:blipFill>
        <p:spPr>
          <a:xfrm>
            <a:off x="5029200" y="1219320"/>
            <a:ext cx="31971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Fonctionne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97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L’étude portera sur la chaîne cinématique de cet objet présenté en vue en perspective ci-dessus et en vue éclatée ci-desso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6093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354560" y="6093000"/>
            <a:ext cx="2016000" cy="5029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86539" h="21600">
                <a:moveTo>
                  <a:pt x="0" y="0"/>
                </a:moveTo>
                <a:lnTo>
                  <a:pt x="86539" y="0"/>
                </a:lnTo>
                <a:lnTo>
                  <a:pt x="86539" y="21600"/>
                </a:lnTo>
                <a:lnTo>
                  <a:pt x="0" y="21600"/>
                </a:lnTo>
                <a:close/>
              </a:path>
              <a:path fill="lightenLess" w="86539" h="21600">
                <a:moveTo>
                  <a:pt x="0" y="0"/>
                </a:moveTo>
                <a:lnTo>
                  <a:pt x="86539" y="0"/>
                </a:lnTo>
                <a:lnTo>
                  <a:pt x="85139" y="1400"/>
                </a:lnTo>
                <a:lnTo>
                  <a:pt x="1400" y="1400"/>
                </a:lnTo>
                <a:close/>
              </a:path>
              <a:path fill="darken" w="86539" h="21600">
                <a:moveTo>
                  <a:pt x="86539" y="0"/>
                </a:moveTo>
                <a:lnTo>
                  <a:pt x="86539" y="21600"/>
                </a:lnTo>
                <a:lnTo>
                  <a:pt x="85139" y="20200"/>
                </a:lnTo>
                <a:lnTo>
                  <a:pt x="85139" y="1400"/>
                </a:lnTo>
                <a:close/>
              </a:path>
              <a:path fill="darkenLess" w="86539" h="21600">
                <a:moveTo>
                  <a:pt x="8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39" y="20200"/>
                </a:lnTo>
                <a:close/>
              </a:path>
              <a:path fill="lighten" w="8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609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u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659640" y="6093000"/>
            <a:ext cx="2016000" cy="5029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86539" h="21600">
                <a:moveTo>
                  <a:pt x="0" y="0"/>
                </a:moveTo>
                <a:lnTo>
                  <a:pt x="86539" y="0"/>
                </a:lnTo>
                <a:lnTo>
                  <a:pt x="86539" y="21600"/>
                </a:lnTo>
                <a:lnTo>
                  <a:pt x="0" y="21600"/>
                </a:lnTo>
                <a:close/>
              </a:path>
              <a:path fill="lightenLess" w="86539" h="21600">
                <a:moveTo>
                  <a:pt x="0" y="0"/>
                </a:moveTo>
                <a:lnTo>
                  <a:pt x="86539" y="0"/>
                </a:lnTo>
                <a:lnTo>
                  <a:pt x="85139" y="1400"/>
                </a:lnTo>
                <a:lnTo>
                  <a:pt x="1400" y="1400"/>
                </a:lnTo>
                <a:close/>
              </a:path>
              <a:path fill="darken" w="86539" h="21600">
                <a:moveTo>
                  <a:pt x="86539" y="0"/>
                </a:moveTo>
                <a:lnTo>
                  <a:pt x="86539" y="21600"/>
                </a:lnTo>
                <a:lnTo>
                  <a:pt x="85139" y="20200"/>
                </a:lnTo>
                <a:lnTo>
                  <a:pt x="85139" y="1400"/>
                </a:lnTo>
                <a:close/>
              </a:path>
              <a:path fill="darkenLess" w="86539" h="21600">
                <a:moveTo>
                  <a:pt x="8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39" y="20200"/>
                </a:lnTo>
                <a:close/>
              </a:path>
              <a:path fill="lighten" w="8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18661" t="22929" r="12189" b="10835"/>
          <a:stretch/>
        </p:blipFill>
        <p:spPr>
          <a:xfrm>
            <a:off x="1905120" y="2057400"/>
            <a:ext cx="53337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Fonctionne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87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6156360" y="587700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78160" y="58770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Ret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887640" y="5877000"/>
            <a:ext cx="2016360" cy="5032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93" h="21600">
                <a:moveTo>
                  <a:pt x="0" y="0"/>
                </a:moveTo>
                <a:lnTo>
                  <a:pt x="86493" y="0"/>
                </a:lnTo>
                <a:lnTo>
                  <a:pt x="86493" y="21600"/>
                </a:lnTo>
                <a:lnTo>
                  <a:pt x="0" y="21600"/>
                </a:lnTo>
                <a:close/>
              </a:path>
              <a:path fill="lightenLess" w="86493" h="21600">
                <a:moveTo>
                  <a:pt x="0" y="0"/>
                </a:moveTo>
                <a:lnTo>
                  <a:pt x="86493" y="0"/>
                </a:lnTo>
                <a:lnTo>
                  <a:pt x="85093" y="1400"/>
                </a:lnTo>
                <a:lnTo>
                  <a:pt x="1400" y="1400"/>
                </a:lnTo>
                <a:close/>
              </a:path>
              <a:path fill="darken" w="86493" h="21600">
                <a:moveTo>
                  <a:pt x="86493" y="0"/>
                </a:moveTo>
                <a:lnTo>
                  <a:pt x="86493" y="21600"/>
                </a:lnTo>
                <a:lnTo>
                  <a:pt x="85093" y="20200"/>
                </a:lnTo>
                <a:lnTo>
                  <a:pt x="85093" y="1400"/>
                </a:lnTo>
                <a:close/>
              </a:path>
              <a:path fill="darkenLess" w="86493" h="21600">
                <a:moveTo>
                  <a:pt x="8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93" y="20200"/>
                </a:lnTo>
                <a:close/>
              </a:path>
              <a:path fill="lighten" w="8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6704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valeorig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7162920" cy="3273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990720"/>
            <a:ext cx="844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Le rotor transmet un mouvement de rotation à une double vis sans fin (sens d’hélice à gauche et à droite) Chacune de ces vis entraîne une roue solidaire d’un pignon. Chaque pignon entraîne à son tour la même roue dentée solidaire de l’arbre de sor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Ajust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365640" y="1773360"/>
            <a:ext cx="5491080" cy="3713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2276640"/>
            <a:ext cx="25034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Le tableau suivant donne les principaux ajustements utilisés en mécaniq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Il permet de déterminer si un ajustement est serré ou glissant sans calculer le jeu entre les piè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4720" y="587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8720" y="587700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Tahoma"/>
              </a:rPr>
              <a:t>Hachur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624720" y="587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8720" y="587700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560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563868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Vis à tô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624720" y="587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Somm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8720" y="587700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620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Numériser0001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3940200" cy="538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1143000"/>
            <a:ext cx="457200" cy="28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657600"/>
            <a:ext cx="457200" cy="28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0:56:20Z</dcterms:created>
  <dc:creator>Nicolas</dc:creator>
  <dc:description/>
  <dc:language>en-US</dc:language>
  <cp:lastModifiedBy>vidal</cp:lastModifiedBy>
  <dcterms:modified xsi:type="dcterms:W3CDTF">2006-04-13T17:58:16Z</dcterms:modified>
  <cp:revision>20</cp:revision>
  <dc:subject/>
  <dc:title>BEP MAITENANCE DES VEHICULES ET DES MATERIELS  Session 2006 </dc:title>
</cp:coreProperties>
</file>